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2A77-653E-4BCF-8187-008DD242AD1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AB19-7FAE-464D-B4A7-6488468E68F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8EAB-27DE-4222-9592-12B48450991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3208-07EF-47CF-922F-A8772770C36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C3A4-C0C5-49D9-AD9F-B3488DB4281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AE80-62FA-437F-A240-8EF341387E4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2035-4C7A-4717-A7E0-68E713BEDC5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9DFC-2534-409E-A2F7-8720EF068FB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FCA6-663E-4FF5-B6E4-8312458F7C3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0813-0573-4712-A7CE-CF120D48B7F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A218-593C-435D-ADCF-0ECF8C9A069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596C-4E95-4762-A973-3F63116BD19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0BE0-6A62-4AEB-847A-A244B4808CB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AEE8-CCA8-4B93-96F7-032626093D7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A9D0-FF82-436E-9A8F-DB00889B65B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8ACA-F3A1-4E33-9026-E166C16B8DE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5664D-D288-4702-8820-F9480DECEF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F301A-C70F-4269-9BB5-F26D1F3A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D1A9F-637F-4AB9-B075-F12A935E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E1C4F-704D-42D9-BF99-8061D84BEA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9F550-5905-4624-9947-16ACB5F8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C3E28-A8D9-47D1-8CC4-530E047F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DA8A6-5602-430D-A78C-CF648C39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6D5C9-4FFA-4926-B043-C73CA0BF7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6F755-8CF0-4DE4-B8E2-778358869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A807D-AFC3-4E20-A640-C90C925D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BD82C-CC59-4E46-8194-68AF9B09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4434F-98F3-4F8B-B986-E183EE73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3CB7-3BE4-4A94-9D63-A801FE66F73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磁共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电子发射型计算机断层显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学检查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纵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内超声引导针吸活检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积液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胸壁针吸细胞学或组织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污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段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中央型鳞癌，给予紫杉醇与顺铂联合术前化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应如何进行呼吸道护理？全肺切除术后胸腔引流管有哪些护理要点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与恐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手术、肿瘤压迫周围及组织浸润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、肺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心律失常、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：腹式呼吸、有效咳嗽、胸管相关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营养状况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肺癌临床表现和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常见的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确运用护理程序评估肺癌患者，进行护理诊断，制订护理计划，提供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采取合适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肺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出院后数星期内，仍需进行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化疗或放疗注意事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良好的营养状况及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认为长期大量吸烟是肺癌重要致病因素，另外还与职业致癌因素、人体免疫状态、代谢状态、遗传等因素相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刺激性咳嗽、痰中带血、胸痛、发热、气促是主要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对肺癌主要采取以外科手术为主的综合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应以呼吸道的管理为重点，术后应注意引流管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刺激性干咳，偶有少量咯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，近日出现胸痛入院。诊断为右上肺叶肺癌。昨日在全麻下行右肺上叶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患者目前可能出现的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是什么？目前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因右上肺叶肺癌行肺叶切除术，今日为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可能出现疼痛（与开胸手术有关）、肺不张（与胸膜腔完整性破坏有关）、潜在并发症（出血）等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应严密观察病情，包括生命体征、引流等情况，及时发现出血等并发症；做好呼吸道护理，鼓励患者咳嗽、深呼吸，保持呼吸道通畅；缓解疼痛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诊断肺癌最常见的检查手段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细胞学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早期肺癌的综合治疗中主要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免疫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关于胸部手术后护理，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生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避免深呼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常规供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协助排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数起源于支气管黏膜上皮，也称支气管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的常见的转移途径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蔓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脱落细胞种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淋巴转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蔓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最常见的症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量多、色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中偶带血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痛、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消瘦乏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声音嘶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中心型肺癌诊断率最高的检查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腔积液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纵隔镜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转移灶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经胸壁穿刺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化疗较敏感的肺癌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腺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小细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大细胞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腺混合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手术后的护理重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营养支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呼吸道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循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镇静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肺切除术后患者输液过程中突然出现呼吸困难，气促咳嗽，咳粉红色泡沫痰，提示患者发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不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内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栓塞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A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D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   7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.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转移方式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低热、咳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痰中带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痰量不多，白色泡沫状，无胸痛，无发热。曾服止咳糖浆和麦迪霉素等药，症状未减轻。既往有慢性支气管炎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无肿瘤家族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双侧颈后可触及多个可活动之淋巴结，右上肺可闻及支气管肺泡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右上肺云雾状阴影，边缘不整齐，形状不规则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此类患者的护理评估主要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咳嗽：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闷和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入纵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远处转移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：锁骨上淋巴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8:22Z</dcterms:modified>
  <cp:revision>86</cp:revision>
  <dc:subject/>
  <dc:title>内科护理学</dc:title>
</cp:coreProperties>
</file>